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FB0-892D-4880-9EFA-C416C3D1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C90-96AD-408C-895B-123E0BFE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391-753C-4428-A9A4-24BB31E5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058-A617-4C8C-A0FF-7E85AD4E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E81-12A8-4520-9EBC-3AA3BA32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320-DF65-48A2-8855-B4C50B40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C7F-9ECA-4D78-8527-ACE67869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DCF-C118-47B8-B7AD-FAED9BCB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DC1-01AF-4517-93A1-7D9BA195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DED-D4F6-4C3A-BA72-43238FB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2E7-DB41-456D-8FC3-89B37A3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BE5-22B2-47CA-8382-3A987155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D34F-8231-441A-8E00-ADB1107DC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22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30.xml"/><Relationship Id="rId8" Type="http://schemas.openxmlformats.org/officeDocument/2006/relationships/slide" Target="slide20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14.xml"/><Relationship Id="rId12" Type="http://schemas.openxmlformats.org/officeDocument/2006/relationships/slide" Target="slide28.xml"/><Relationship Id="rId13" Type="http://schemas.openxmlformats.org/officeDocument/2006/relationships/slide" Target="slide35.xml"/><Relationship Id="rId14" Type="http://schemas.openxmlformats.org/officeDocument/2006/relationships/slide" Target="slide37.xml"/><Relationship Id="rId15" Type="http://schemas.openxmlformats.org/officeDocument/2006/relationships/slide" Target="slide39.xml"/><Relationship Id="rId16" Type="http://schemas.openxmlformats.org/officeDocument/2006/relationships/slide" Target="slide41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601992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 Small Cap"/>
              </a:rPr>
              <a:t>MONDAY TEST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523880"/>
          <a:ext cx="8305920" cy="44499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828800"/>
                <a:gridCol w="1658880"/>
                <a:gridCol w="1617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Vocabulary Defin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Vocabulary Fill-In the Bl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Machiave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Old Vocabul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SUR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 Small Ca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533520" y="25146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3794"/>
                </a:moveTo>
                <a:lnTo>
                  <a:pt x="27515" y="10800"/>
                </a:lnTo>
                <a:lnTo>
                  <a:pt x="135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35268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3794"/>
                </a:moveTo>
                <a:lnTo>
                  <a:pt x="27515" y="10800"/>
                </a:lnTo>
                <a:lnTo>
                  <a:pt x="135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533520" y="4267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80" h="21600">
                <a:moveTo>
                  <a:pt x="15783" y="3794"/>
                </a:moveTo>
                <a:lnTo>
                  <a:pt x="29796" y="10800"/>
                </a:lnTo>
                <a:lnTo>
                  <a:pt x="1578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105520"/>
            <a:ext cx="1447560" cy="76176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37" h="21600">
                <a:moveTo>
                  <a:pt x="0" y="0"/>
                </a:moveTo>
                <a:lnTo>
                  <a:pt x="41037" y="0"/>
                </a:lnTo>
                <a:lnTo>
                  <a:pt x="41037" y="21600"/>
                </a:lnTo>
                <a:lnTo>
                  <a:pt x="0" y="21600"/>
                </a:lnTo>
                <a:close/>
              </a:path>
              <a:path fill="lightenLess" w="41037" h="21600">
                <a:moveTo>
                  <a:pt x="0" y="0"/>
                </a:moveTo>
                <a:lnTo>
                  <a:pt x="41037" y="0"/>
                </a:lnTo>
                <a:lnTo>
                  <a:pt x="39637" y="1400"/>
                </a:lnTo>
                <a:lnTo>
                  <a:pt x="1400" y="1400"/>
                </a:lnTo>
                <a:close/>
              </a:path>
              <a:path fill="darken" w="41037" h="21600">
                <a:moveTo>
                  <a:pt x="41037" y="0"/>
                </a:moveTo>
                <a:lnTo>
                  <a:pt x="41037" y="21600"/>
                </a:lnTo>
                <a:lnTo>
                  <a:pt x="39637" y="20200"/>
                </a:lnTo>
                <a:lnTo>
                  <a:pt x="39637" y="1400"/>
                </a:lnTo>
                <a:close/>
              </a:path>
              <a:path fill="darkenLess" w="41037" h="21600">
                <a:moveTo>
                  <a:pt x="41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37" y="20200"/>
                </a:lnTo>
                <a:close/>
              </a:path>
              <a:path fill="lighten" w="41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37" h="21600">
                <a:moveTo>
                  <a:pt x="13512" y="3794"/>
                </a:moveTo>
                <a:lnTo>
                  <a:pt x="27525" y="10800"/>
                </a:lnTo>
                <a:lnTo>
                  <a:pt x="1351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4343400" y="3276720"/>
            <a:ext cx="1523880" cy="914400"/>
          </a:xfrm>
          <a:custGeom>
            <a:avLst/>
            <a:gdLst>
              <a:gd name="textAreaLeft" fmla="*/ 59040 w 1523880"/>
              <a:gd name="textAreaRight" fmla="*/ 1464840 w 15238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991" h="21600">
                <a:moveTo>
                  <a:pt x="0" y="0"/>
                </a:moveTo>
                <a:lnTo>
                  <a:pt x="35991" y="0"/>
                </a:lnTo>
                <a:lnTo>
                  <a:pt x="35991" y="21600"/>
                </a:lnTo>
                <a:lnTo>
                  <a:pt x="0" y="21600"/>
                </a:lnTo>
                <a:close/>
              </a:path>
              <a:path fill="lightenLess" w="35991" h="21600">
                <a:moveTo>
                  <a:pt x="0" y="0"/>
                </a:moveTo>
                <a:lnTo>
                  <a:pt x="35991" y="0"/>
                </a:lnTo>
                <a:lnTo>
                  <a:pt x="34591" y="1400"/>
                </a:lnTo>
                <a:lnTo>
                  <a:pt x="1400" y="1400"/>
                </a:lnTo>
                <a:close/>
              </a:path>
              <a:path fill="darken" w="35991" h="21600">
                <a:moveTo>
                  <a:pt x="35991" y="0"/>
                </a:moveTo>
                <a:lnTo>
                  <a:pt x="35991" y="21600"/>
                </a:lnTo>
                <a:lnTo>
                  <a:pt x="34591" y="20200"/>
                </a:lnTo>
                <a:lnTo>
                  <a:pt x="34591" y="1400"/>
                </a:lnTo>
                <a:close/>
              </a:path>
              <a:path fill="darkenLess" w="35991" h="21600">
                <a:moveTo>
                  <a:pt x="35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1" y="20200"/>
                </a:lnTo>
                <a:close/>
              </a:path>
              <a:path fill="lighten" w="35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1" h="21600">
                <a:moveTo>
                  <a:pt x="10989" y="3794"/>
                </a:moveTo>
                <a:lnTo>
                  <a:pt x="25002" y="10800"/>
                </a:lnTo>
                <a:lnTo>
                  <a:pt x="109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2057400" y="2438280"/>
            <a:ext cx="2286000" cy="838440"/>
          </a:xfrm>
          <a:custGeom>
            <a:avLst/>
            <a:gdLst>
              <a:gd name="textAreaLeft" fmla="*/ 54360 w 2286000"/>
              <a:gd name="textAreaRight" fmla="*/ 2231640 w 2286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8876" h="21600">
                <a:moveTo>
                  <a:pt x="0" y="0"/>
                </a:moveTo>
                <a:lnTo>
                  <a:pt x="58876" y="0"/>
                </a:lnTo>
                <a:lnTo>
                  <a:pt x="58876" y="21600"/>
                </a:lnTo>
                <a:lnTo>
                  <a:pt x="0" y="21600"/>
                </a:lnTo>
                <a:close/>
              </a:path>
              <a:path fill="lightenLess" w="58876" h="21600">
                <a:moveTo>
                  <a:pt x="0" y="0"/>
                </a:moveTo>
                <a:lnTo>
                  <a:pt x="58876" y="0"/>
                </a:lnTo>
                <a:lnTo>
                  <a:pt x="57476" y="1400"/>
                </a:lnTo>
                <a:lnTo>
                  <a:pt x="1400" y="1400"/>
                </a:lnTo>
                <a:close/>
              </a:path>
              <a:path fill="darken" w="58876" h="21600">
                <a:moveTo>
                  <a:pt x="58876" y="0"/>
                </a:moveTo>
                <a:lnTo>
                  <a:pt x="58876" y="21600"/>
                </a:lnTo>
                <a:lnTo>
                  <a:pt x="57476" y="20200"/>
                </a:lnTo>
                <a:lnTo>
                  <a:pt x="57476" y="1400"/>
                </a:lnTo>
                <a:close/>
              </a:path>
              <a:path fill="darkenLess" w="58876" h="21600">
                <a:moveTo>
                  <a:pt x="5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476" y="20200"/>
                </a:lnTo>
                <a:close/>
              </a:path>
              <a:path fill="lighten" w="5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876" h="21600">
                <a:moveTo>
                  <a:pt x="22432" y="3794"/>
                </a:moveTo>
                <a:lnTo>
                  <a:pt x="36445" y="10800"/>
                </a:lnTo>
                <a:lnTo>
                  <a:pt x="224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1981080" y="4191120"/>
            <a:ext cx="2362320" cy="838080"/>
          </a:xfrm>
          <a:custGeom>
            <a:avLst/>
            <a:gdLst>
              <a:gd name="textAreaLeft" fmla="*/ 54000 w 2362320"/>
              <a:gd name="textAreaRight" fmla="*/ 2308320 w 2362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0868" h="21600">
                <a:moveTo>
                  <a:pt x="0" y="0"/>
                </a:moveTo>
                <a:lnTo>
                  <a:pt x="60868" y="0"/>
                </a:lnTo>
                <a:lnTo>
                  <a:pt x="60868" y="21600"/>
                </a:lnTo>
                <a:lnTo>
                  <a:pt x="0" y="21600"/>
                </a:lnTo>
                <a:close/>
              </a:path>
              <a:path fill="lightenLess" w="60868" h="21600">
                <a:moveTo>
                  <a:pt x="0" y="0"/>
                </a:moveTo>
                <a:lnTo>
                  <a:pt x="60868" y="0"/>
                </a:lnTo>
                <a:lnTo>
                  <a:pt x="59468" y="1400"/>
                </a:lnTo>
                <a:lnTo>
                  <a:pt x="1400" y="1400"/>
                </a:lnTo>
                <a:close/>
              </a:path>
              <a:path fill="darken" w="60868" h="21600">
                <a:moveTo>
                  <a:pt x="60868" y="0"/>
                </a:moveTo>
                <a:lnTo>
                  <a:pt x="60868" y="21600"/>
                </a:lnTo>
                <a:lnTo>
                  <a:pt x="59468" y="20200"/>
                </a:lnTo>
                <a:lnTo>
                  <a:pt x="59468" y="1400"/>
                </a:lnTo>
                <a:close/>
              </a:path>
              <a:path fill="darkenLess" w="60868" h="21600">
                <a:moveTo>
                  <a:pt x="60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468" y="20200"/>
                </a:lnTo>
                <a:close/>
              </a:path>
              <a:path fill="lighten" w="60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868" h="21600">
                <a:moveTo>
                  <a:pt x="23427" y="3794"/>
                </a:moveTo>
                <a:lnTo>
                  <a:pt x="37440" y="10800"/>
                </a:lnTo>
                <a:lnTo>
                  <a:pt x="234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2057400" y="51055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00" h="21600">
                <a:moveTo>
                  <a:pt x="25394" y="3794"/>
                </a:moveTo>
                <a:lnTo>
                  <a:pt x="39406" y="10800"/>
                </a:lnTo>
                <a:lnTo>
                  <a:pt x="253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5943600" y="33526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4343400" y="2438280"/>
            <a:ext cx="1523880" cy="838440"/>
          </a:xfrm>
          <a:custGeom>
            <a:avLst/>
            <a:gdLst>
              <a:gd name="textAreaLeft" fmla="*/ 54360 w 1523880"/>
              <a:gd name="textAreaRight" fmla="*/ 1469520 w 1523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9251" h="21600">
                <a:moveTo>
                  <a:pt x="0" y="0"/>
                </a:moveTo>
                <a:lnTo>
                  <a:pt x="39251" y="0"/>
                </a:lnTo>
                <a:lnTo>
                  <a:pt x="39251" y="21600"/>
                </a:lnTo>
                <a:lnTo>
                  <a:pt x="0" y="21600"/>
                </a:lnTo>
                <a:close/>
              </a:path>
              <a:path fill="lightenLess" w="39251" h="21600">
                <a:moveTo>
                  <a:pt x="0" y="0"/>
                </a:moveTo>
                <a:lnTo>
                  <a:pt x="39251" y="0"/>
                </a:lnTo>
                <a:lnTo>
                  <a:pt x="37851" y="1400"/>
                </a:lnTo>
                <a:lnTo>
                  <a:pt x="1400" y="1400"/>
                </a:lnTo>
                <a:close/>
              </a:path>
              <a:path fill="darken" w="39251" h="21600">
                <a:moveTo>
                  <a:pt x="39251" y="0"/>
                </a:moveTo>
                <a:lnTo>
                  <a:pt x="39251" y="21600"/>
                </a:lnTo>
                <a:lnTo>
                  <a:pt x="37851" y="20200"/>
                </a:lnTo>
                <a:lnTo>
                  <a:pt x="37851" y="1400"/>
                </a:lnTo>
                <a:close/>
              </a:path>
              <a:path fill="darkenLess" w="39251" h="21600">
                <a:moveTo>
                  <a:pt x="39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1" y="20200"/>
                </a:lnTo>
                <a:close/>
              </a:path>
              <a:path fill="lighten" w="39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51" h="21600">
                <a:moveTo>
                  <a:pt x="12619" y="3794"/>
                </a:moveTo>
                <a:lnTo>
                  <a:pt x="26632" y="10800"/>
                </a:lnTo>
                <a:lnTo>
                  <a:pt x="1261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4343400" y="419112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68" h="21600">
                <a:moveTo>
                  <a:pt x="12627" y="3794"/>
                </a:moveTo>
                <a:lnTo>
                  <a:pt x="26640" y="10800"/>
                </a:lnTo>
                <a:lnTo>
                  <a:pt x="126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4343400" y="5105520"/>
            <a:ext cx="1523880" cy="76176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2057400" y="33526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74" h="21600">
                <a:moveTo>
                  <a:pt x="28980" y="3794"/>
                </a:moveTo>
                <a:lnTo>
                  <a:pt x="42993" y="10800"/>
                </a:lnTo>
                <a:lnTo>
                  <a:pt x="2898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5943600" y="24382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3794"/>
                </a:moveTo>
                <a:lnTo>
                  <a:pt x="21728" y="10800"/>
                </a:lnTo>
                <a:lnTo>
                  <a:pt x="77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1911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3" action="ppaction://hlinksldjump"/>
          </p:cNvPr>
          <p:cNvSpPr/>
          <p:nvPr/>
        </p:nvSpPr>
        <p:spPr>
          <a:xfrm>
            <a:off x="5943600" y="5105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lastslide"/>
          </p:cNvPr>
          <p:cNvSpPr/>
          <p:nvPr/>
        </p:nvSpPr>
        <p:spPr>
          <a:xfrm>
            <a:off x="1522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4" action="ppaction://hlinksldjump"/>
          </p:cNvPr>
          <p:cNvSpPr/>
          <p:nvPr/>
        </p:nvSpPr>
        <p:spPr>
          <a:xfrm>
            <a:off x="7162920" y="2438280"/>
            <a:ext cx="1600200" cy="838440"/>
          </a:xfrm>
          <a:custGeom>
            <a:avLst/>
            <a:gdLst>
              <a:gd name="textAreaLeft" fmla="*/ 54360 w 1600200"/>
              <a:gd name="textAreaRight" fmla="*/ 1545840 w 16002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1216" h="21600">
                <a:moveTo>
                  <a:pt x="0" y="0"/>
                </a:moveTo>
                <a:lnTo>
                  <a:pt x="41216" y="0"/>
                </a:lnTo>
                <a:lnTo>
                  <a:pt x="41216" y="21600"/>
                </a:lnTo>
                <a:lnTo>
                  <a:pt x="0" y="21600"/>
                </a:lnTo>
                <a:close/>
              </a:path>
              <a:path fill="lightenLess" w="41216" h="21600">
                <a:moveTo>
                  <a:pt x="0" y="0"/>
                </a:moveTo>
                <a:lnTo>
                  <a:pt x="41216" y="0"/>
                </a:lnTo>
                <a:lnTo>
                  <a:pt x="39816" y="1400"/>
                </a:lnTo>
                <a:lnTo>
                  <a:pt x="1400" y="1400"/>
                </a:lnTo>
                <a:close/>
              </a:path>
              <a:path fill="darken" w="41216" h="21600">
                <a:moveTo>
                  <a:pt x="41216" y="0"/>
                </a:moveTo>
                <a:lnTo>
                  <a:pt x="41216" y="21600"/>
                </a:lnTo>
                <a:lnTo>
                  <a:pt x="39816" y="20200"/>
                </a:lnTo>
                <a:lnTo>
                  <a:pt x="39816" y="1400"/>
                </a:lnTo>
                <a:close/>
              </a:path>
              <a:path fill="darkenLess" w="41216" h="21600">
                <a:moveTo>
                  <a:pt x="41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16" y="20200"/>
                </a:lnTo>
                <a:close/>
              </a:path>
              <a:path fill="lighten" w="41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16" h="21600">
                <a:moveTo>
                  <a:pt x="13602" y="3794"/>
                </a:moveTo>
                <a:lnTo>
                  <a:pt x="27615" y="10800"/>
                </a:lnTo>
                <a:lnTo>
                  <a:pt x="136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5" action="ppaction://hlinksldjump"/>
          </p:cNvPr>
          <p:cNvSpPr/>
          <p:nvPr/>
        </p:nvSpPr>
        <p:spPr>
          <a:xfrm>
            <a:off x="7162920" y="327672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13610" y="3794"/>
                </a:moveTo>
                <a:lnTo>
                  <a:pt x="27623" y="10800"/>
                </a:lnTo>
                <a:lnTo>
                  <a:pt x="136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6" action="ppaction://hlinksldjump"/>
          </p:cNvPr>
          <p:cNvSpPr/>
          <p:nvPr/>
        </p:nvSpPr>
        <p:spPr>
          <a:xfrm>
            <a:off x="7162920" y="419112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13610" y="3794"/>
                </a:moveTo>
                <a:lnTo>
                  <a:pt x="27623" y="10800"/>
                </a:lnTo>
                <a:lnTo>
                  <a:pt x="136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5029200"/>
            <a:ext cx="1523880" cy="838080"/>
          </a:xfrm>
          <a:custGeom>
            <a:avLst/>
            <a:gdLst>
              <a:gd name="textAreaLeft" fmla="*/ 54000 w 1523880"/>
              <a:gd name="textAreaRight" fmla="*/ 1469880 w 1523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9268" h="21600">
                <a:moveTo>
                  <a:pt x="0" y="0"/>
                </a:moveTo>
                <a:lnTo>
                  <a:pt x="39268" y="0"/>
                </a:lnTo>
                <a:lnTo>
                  <a:pt x="39268" y="21600"/>
                </a:lnTo>
                <a:lnTo>
                  <a:pt x="0" y="21600"/>
                </a:lnTo>
                <a:close/>
              </a:path>
              <a:path fill="lightenLess" w="39268" h="21600">
                <a:moveTo>
                  <a:pt x="0" y="0"/>
                </a:moveTo>
                <a:lnTo>
                  <a:pt x="39268" y="0"/>
                </a:lnTo>
                <a:lnTo>
                  <a:pt x="37868" y="1400"/>
                </a:lnTo>
                <a:lnTo>
                  <a:pt x="1400" y="1400"/>
                </a:lnTo>
                <a:close/>
              </a:path>
              <a:path fill="darken" w="39268" h="21600">
                <a:moveTo>
                  <a:pt x="39268" y="0"/>
                </a:moveTo>
                <a:lnTo>
                  <a:pt x="39268" y="21600"/>
                </a:lnTo>
                <a:lnTo>
                  <a:pt x="37868" y="20200"/>
                </a:lnTo>
                <a:lnTo>
                  <a:pt x="37868" y="1400"/>
                </a:lnTo>
                <a:close/>
              </a:path>
              <a:path fill="darkenLess" w="39268" h="21600">
                <a:moveTo>
                  <a:pt x="39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8" y="20200"/>
                </a:lnTo>
                <a:close/>
              </a:path>
              <a:path fill="lighten" w="39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68" h="21600">
                <a:moveTo>
                  <a:pt x="12627" y="3794"/>
                </a:moveTo>
                <a:lnTo>
                  <a:pt x="26640" y="10800"/>
                </a:lnTo>
                <a:lnTo>
                  <a:pt x="126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6095880"/>
            <a:ext cx="1905120" cy="53352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93" h="21600">
                <a:moveTo>
                  <a:pt x="0" y="0"/>
                </a:moveTo>
                <a:lnTo>
                  <a:pt x="77093" y="0"/>
                </a:lnTo>
                <a:lnTo>
                  <a:pt x="77093" y="21600"/>
                </a:lnTo>
                <a:lnTo>
                  <a:pt x="0" y="21600"/>
                </a:lnTo>
                <a:close/>
              </a:path>
              <a:path fill="lightenLess" w="77093" h="21600">
                <a:moveTo>
                  <a:pt x="0" y="0"/>
                </a:moveTo>
                <a:lnTo>
                  <a:pt x="77093" y="0"/>
                </a:lnTo>
                <a:lnTo>
                  <a:pt x="75693" y="1400"/>
                </a:lnTo>
                <a:lnTo>
                  <a:pt x="1400" y="1400"/>
                </a:lnTo>
                <a:close/>
              </a:path>
              <a:path fill="darken" w="77093" h="21600">
                <a:moveTo>
                  <a:pt x="77093" y="0"/>
                </a:moveTo>
                <a:lnTo>
                  <a:pt x="77093" y="21600"/>
                </a:lnTo>
                <a:lnTo>
                  <a:pt x="75693" y="20200"/>
                </a:lnTo>
                <a:lnTo>
                  <a:pt x="75693" y="1400"/>
                </a:lnTo>
                <a:close/>
              </a:path>
              <a:path fill="darkenLess" w="77093" h="21600">
                <a:moveTo>
                  <a:pt x="77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93" y="20200"/>
                </a:lnTo>
                <a:close/>
              </a:path>
              <a:path fill="lighten" w="77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 FILL-IN THE BLANKS</a:t>
            </a:r>
            <a:br>
              <a:rPr sz="4400"/>
            </a:b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*800*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685800" y="4343400"/>
            <a:ext cx="9829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rewd/shrewd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dium/odious/odi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orbitant/exorbitant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ser/mise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stow/bestows/bestow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paigns/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empt/contemptu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tation/ostentatious/ostentatious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286000"/>
            <a:ext cx="84582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ody really like the woman who lived down the street.  She was uppity and _______ about how much money she h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602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380880" y="6858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86000"/>
            <a:ext cx="84582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ody really like the woman who lived down the street.  She was uppity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tentati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ut how much money she h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. DEFINITION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2286000"/>
            <a:ext cx="84582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wo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MPA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 Machiavelli use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602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286000"/>
            <a:ext cx="845820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MPAIG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. DEFINITION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2438280"/>
            <a:ext cx="8458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wo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602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362320"/>
            <a:ext cx="8458200" cy="167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ER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one stingy, someone who is NOT gen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. DEFINITION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2438280"/>
            <a:ext cx="8458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wo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602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752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MPT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tred or strong dis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. DEFINITION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438280"/>
            <a:ext cx="8458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wo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ENTAT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362320"/>
            <a:ext cx="8458200" cy="167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ENTATIOUS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y, show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 FILL-IN THE BLANK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45820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ka narrowed her eyes and looked at Ms. Molleur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 when s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 upon the class yet another paper to write for AP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685800" y="4343400"/>
            <a:ext cx="9829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rewd/shrewd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dium/odious/odi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orbitant/exorbitant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ser/mise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stow/bestows/bestow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paigns/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empt/contemptu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tation/ostentatious/ostentatious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02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chiavelli wro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Pri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 a time when the county of (1) _________ was experiencing a lot of (2) 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ill in each blank with something that 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r own word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02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chiavelli wro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Pri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 a time when the county of Italy was experiencing a lot of political conflict and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ill in each blank with something that 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r own word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d “MACHIAVELLIAN” means…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602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380880" y="7621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8120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d “MACHIAVELLIAN” me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thless, manipulative, and doing whatever it takes to keep po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ople in Machiavelli’s time (and even today!) think that princes and leaders should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avelli believed it was okay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05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ill in each blank with something that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own word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02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438280"/>
            <a:ext cx="845820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ople in Machiavelli’s time (and even today!) think that princes and leaders should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tu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avelli believed it was okay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 immorally to keep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AVELLI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632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many people initially disagree with this idea, Machiavelli believed that a prince should NOT be __________________ in order to avoid being hated and loosing po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602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many people initially disagree with this idea, Machiavelli believed that a prince should NOT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ner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rder to avoid being hated and loosing po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VOCABULARY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03280" cy="244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bu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6024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buke means to express sharp disapproval or repriman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ka narrowed her eyes and looked at Ms. Molleur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tempt or odious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stow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on the class yet another paper to write for AP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VOCABULARY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if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602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fle – to silence, suppress, or suffoc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DOUBLE JEOPARDY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VOCABULARY</a:t>
            </a:r>
            <a:br>
              <a:rPr sz="4400"/>
            </a:b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*600*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ie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3602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ieve means a brea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VOCABULARY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ac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36024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438280"/>
            <a:ext cx="8534160" cy="266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actic means teacher-like/preachin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2438280"/>
            <a:ext cx="853416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turmoil in Italy at the time, Machiavelli believed that a prince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st import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should be to _______________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m, this was more important than being virtuous, generous, or liked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36024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438280"/>
            <a:ext cx="853416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e turmoil in Italy at the time, Machiavelli believed that a prince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st import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should be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o WHATEVER it takes to KEEP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m, this was more important than being virtuous, generous, or liked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4920" y="2438280"/>
            <a:ext cx="8534160" cy="373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o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words “exorbitant taxes”? 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o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words “high taxe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602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DOUBLE JEOPARDY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o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words “exorbitant taxes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o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words “high taxe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0"/>
          <a:ext cx="365040" cy="10102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0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" y="2590920"/>
            <a:ext cx="83818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ext did Jonathan Swift write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36024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590920"/>
            <a:ext cx="83818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nathan Swift wro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“A Modest Proposal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2590920"/>
            <a:ext cx="8381880" cy="380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riting of both Machiavelli Gabriel Jose Garcia Marquez was shaped by their backgrou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simi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Machiavelli’s background and Gabriel Jose Garcia Marquez’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WO DIFFER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36024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828800"/>
            <a:ext cx="8458200" cy="487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milarity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avelli and Marquez both lived in countries that had a lo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tical confl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upted leader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Machiavelli wro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fiction/ess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ived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 Ita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quez wro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ved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 Columbi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ly think of the number of points your group would like to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 walk around quietly let me know what your group would like to wager on this last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end of “One of These Days”, Marquez describes a spider by sa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ile the dentist washed his hands, he saw the crumbling ceiling and a dusty spider web with spider’s eggs and dead insec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ight this spider symbolize?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t least two pieces of evidence to support/explain your clai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NGLISH 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 flipH="1">
            <a:off x="3581280" y="53341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3" h="21600">
                <a:moveTo>
                  <a:pt x="12703" y="10800"/>
                </a:moveTo>
                <a:lnTo>
                  <a:pt x="23208" y="3794"/>
                </a:lnTo>
                <a:lnTo>
                  <a:pt x="23208" y="17806"/>
                </a:lnTo>
                <a:close/>
              </a:path>
              <a:path fill="darken" w="32403" h="21600">
                <a:moveTo>
                  <a:pt x="9195" y="3794"/>
                </a:moveTo>
                <a:lnTo>
                  <a:pt x="10858" y="3794"/>
                </a:lnTo>
                <a:lnTo>
                  <a:pt x="10858" y="17806"/>
                </a:lnTo>
                <a:lnTo>
                  <a:pt x="91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72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 FILL-IN THE BLANKS</a:t>
            </a:r>
            <a:br>
              <a:rPr sz="4400"/>
            </a:b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*400*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2286000"/>
            <a:ext cx="845820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eason that people oppose the new health care bill is that it will cost lots of money, and they fear it will cause ________ ta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685800" y="4343400"/>
            <a:ext cx="9829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rewd/shrewd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dium/odious/odi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orbitant/exorbitant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ser/mise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stow/bestows/bestow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paigns/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empt/contemptu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tation/ostentatious/ostentatious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602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210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ason that people oppose the new health care bill is that it will cost lots of money, and they fear it will caus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orbi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 FILL-IN THE BLANKS</a:t>
            </a:r>
            <a:br>
              <a:rPr sz="44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2286000"/>
            <a:ext cx="8458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all her friends decided to go to a party and drink, Mesha made the ______ decision not to go, so when the cops busted up the party, she didn’t get in tr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85800" y="4343400"/>
            <a:ext cx="9829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hrewd/shrewd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dium/odious/odi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orbitant/exorbitant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ser/mise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stow/bestows/bestow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paigns/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empt/contemptuous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tation/ostentatious/ostentatious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602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380880" y="114300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0"/>
            <a:ext cx="8458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all her friends decided to go to a party and drink, Mesha made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rew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ision not to go, so when the cops busted up the party, she didn’t get in tr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</a:rPr>
              <a:t>DOUBLE JEOPARDY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7:31:47Z</dcterms:created>
  <dc:creator>Beebem</dc:creator>
  <dc:description/>
  <dc:language>en-US</dc:language>
  <cp:lastModifiedBy>Carolynn</cp:lastModifiedBy>
  <dcterms:modified xsi:type="dcterms:W3CDTF">2010-03-19T12:55:24Z</dcterms:modified>
  <cp:revision>58</cp:revision>
  <dc:subject/>
  <dc:title>QUADRILATERALS</dc:title>
</cp:coreProperties>
</file>